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type.wav" ContentType="audio/x-wav"/>
  <Override PartName="/ppt/media/chimes.wav" ContentType="audio/x-wav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D23B-27B7-4490-9D71-A11B156A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B732-10CC-4D2F-B996-9F432C58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E3C95-B158-490D-A903-B2683F7F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389AF-7C53-460C-8D95-186329FE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A95EB-E88C-4150-8695-444F8462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894AD-4213-43A8-89B8-0E855011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91192-BFAA-4C4C-BDAB-6AE58440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599B8-EC52-410E-BDFB-3154B342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8AB17-C06B-457C-AB81-DD2B1A8F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3CB50-DEBD-4217-94C8-84080762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60594-67ED-44C6-B078-B2B8FFB6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73558-B962-498B-BCCB-1ABC7445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F5C9-6E36-4441-A951-3B910E0F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7326B-0B4A-46FF-90B3-C73C0A13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EFABB-356F-447B-98CE-68FE2A8C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CD2B1-CD55-47E9-B556-353A86A5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427DC-1926-4DA4-B52E-83879704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1AB2E-CB2E-40F1-AC71-6697353B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6E88B-2591-4BCA-8E14-88077CB4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061DC-4271-4318-ACCB-5B065A81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A4E63-836E-4E99-855F-4EBB93AB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CF0FC-4F8C-4420-B7AB-0B90CD1B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4F337-D8F0-4C4B-8E8A-5E13326B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EE53-194C-4DE9-82C6-B9D17D82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516B8-22E7-44BC-9BAA-EA0EE60B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6DDF1-01A1-4B5F-8109-A4171625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9EA1D-6DAA-4C25-91BB-555E5F31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5CE78-D417-41D2-A863-E8CE2CC2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E2B9B-B451-4EE5-8381-F09762F0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6341B-9D8C-44B5-A57C-EB99B246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B5009-C3FE-44B1-80B1-9CD4E06E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3E4EC-A956-4DBA-9B98-9190EF78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6FFBA-23FA-4D4E-82AB-740DDC92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FA92E-7B59-43A6-A606-6B6DFE43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A143-7690-4EC7-86B9-3345AA14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3FA47-072D-4C0E-ADE6-50C0CB5F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1E705-0D6C-4467-B56E-9BC47129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BD114-CD03-43F3-998D-7A4C5AD6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5016-1453-457A-8E97-12E84AAF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67A4-46EC-408A-AD30-C418BEE6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0BEA-A039-4BB1-9353-CBF3104E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C3F3-A880-4F07-9AA3-D9E77871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5F5C-E258-4686-AE86-EAF4FB6C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A9A0-FC5B-421A-BC28-928ECC4C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2590-692C-4432-8D88-C13C3D2B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4BA9-B35C-4FEB-A977-E2DFEC84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D90D-7866-4B61-84B8-6BFFA7F3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B72F-A666-4409-B20D-3D15871D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FAC3-7ADF-4CFF-9700-BB5743C5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75C7-D37C-4A6C-B90B-DB3120D7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F1305-14FD-46A6-89D3-BC1CE176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47BB9-48D8-4455-ACB7-3EB5F615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98732-07C4-4A79-B437-6748CC5B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2E5C6-B6C4-4BBF-A903-6411CE43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059C8-1999-4074-8016-77131447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62D3-0195-4B9D-B50F-4F221521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E7FC8-BC56-4F57-8BED-E0E9510C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B6B30-0C68-4469-9088-E0E8896C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C7CBA-EEA9-415B-8DE9-D5430129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00B32-19CF-43BA-92E5-EDF78F02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FC1FE-AC7E-40B5-BD29-90FFF72A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4E36C-256E-44B5-BEE9-28569C72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6FC4E-F956-495A-A759-0B6103B6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EE567-94D4-4518-B664-01A3C61D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507AD-1D06-40C4-9F75-19876B5B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0A7E1-2070-47E8-A6E3-8AA0072E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FAE2-6457-4660-9AEB-7FC4FA61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63395-9579-47AC-A0B3-8FD4F014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23254-0571-41E8-9968-38E8841B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D3769-14FA-4F0B-AE5A-F428E0D9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CE657-88A5-46B4-8922-F33F1136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A097C-32D0-4B7E-A915-7A60F259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9DE2E-CCF7-43F6-AC98-F6628D00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32C2A-A59F-4105-8E69-1415DA1C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287FE-1EC7-419B-90CD-3BD4718A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578C2-DCE7-4BC3-B8A4-35638B88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49F13-5937-4F05-A2AD-1C60A506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40DD-46AA-4B53-9861-CEBD3090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47CD3-A33A-4DA0-809E-EDA85308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2421B-A217-4A59-BEDF-5CE343D9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3C79E-EEA8-4B92-ADF4-E57846B8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B6A66-7258-44FD-84BF-913FDC65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0366F-2B9F-47B8-AF72-87C101C7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8517C-1AA1-4B3E-BECB-50B45A87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9CF5C-F466-46FC-91B7-89BBEAE5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7EB8F-F4AF-420D-B542-FCD90983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7EFC6-CB69-4E06-84E5-3F249A4F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E78F2-D643-4AB6-926C-A380C8F6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4852-1E9F-4AF3-89A3-5EC7E9C2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8A96B-0F4F-403C-9D9D-BAFFF322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5E687-81F3-47E5-9CED-31F245E2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8660B-124E-4DB5-9D93-4C3B2530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64017-F9D3-4D64-A38E-0603F349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E86AE-41E8-4657-AC1B-B66784FE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5B1F4-82E1-429D-97A9-98E68A42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247C7-C44E-417D-8BEA-B519AAD9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EDFD8-23FE-43E3-BE79-D4CDF210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2A90B-0C6D-4DE9-A21D-6C2B71B0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DD6F4-5B2B-4A01-A332-223008B8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4FAE-3F53-4007-94B0-D8E94291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C8CA6-8D92-4678-87F8-DF23CF8A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72853-FBDB-496F-A342-2E769315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3ABC2-6FA4-47D7-887D-6F9A7AFD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7F311-2450-446C-A28C-FDC2B013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34EDD-4763-4FD1-959F-20A41530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0E319-CF1B-429E-8855-71A97547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67929-D226-4152-A55D-ACB31128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C895C-06C5-4DC4-BB36-A79A5369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53F74-F269-4ECA-BF06-18090FE3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1CDE2-A128-4662-9003-4651C718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A61C-89A4-46B4-B61A-F92D57BD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81CB4-8B2E-4741-84A5-C7C377FA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F2FF3-C972-4827-B380-45AEEA49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6FAE7-DA1C-495A-B890-632DF3EE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E3F81-95FE-466A-8124-5E67E730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B89F1-6E8A-418A-AD21-A5AC9BD9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2271C-2366-42D3-BE31-2D71F8C2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67389-D9A0-4B05-AD21-7ABAA598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493FE-1CF6-4D45-93B3-6216F5FA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DF96E-017E-49AF-A34F-6BFBE9DC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ED0CF-1456-49DA-B622-7D78A830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F72D-1C10-4B26-954E-D419B953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7B78D-2058-4094-ADF8-503711A3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AE4C8-0A91-48BB-B87B-1DD02129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6D15E-4CAC-4AC6-A4AA-B4AD1A2B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83175-944E-47D9-8F5C-87877095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6CF3D-1412-4144-BA58-8C6C8ECC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6CC0C-7FB6-4D24-9591-4BD44036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7475B-5874-4C2F-85DD-E6B0D1A0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11BD5-4779-4CFC-81BD-9D354970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82BB7-3A93-4517-92F2-9BA877DF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850CB-91CC-455D-9043-9964053A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6172-865E-4F26-BDD7-214082B60F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1DD3-B70B-47C7-80CA-D74AADA5630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DBDB-9459-4DBB-BA3D-D6B58E859B6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5EBA-D991-408F-8751-91CEE3E487C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80E1-84D1-4995-819A-FC1B36C925D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7773-8314-4B25-81DD-2F495D8BD60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D140-341C-49CE-902E-20938362B6A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3679-9B86-489D-8129-963AC06DEFF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97D6-9E1C-4550-8C45-7D02DBAA981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6490-B62B-4E08-9318-90EC191ABEF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70CE-AA18-4FB8-9DA5-B81D1A78A87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Text Box 5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1992240"/>
          </a:xfrm>
          <a:prstGeom prst="rect">
            <a:avLst/>
          </a:prstGeom>
          <a:ln w="0">
            <a:noFill/>
          </a:ln>
        </p:spPr>
      </p:pic>
      <p:pic>
        <p:nvPicPr>
          <p:cNvPr id="463" name="Text Box 5" descr=""/>
          <p:cNvPicPr/>
          <p:nvPr/>
        </p:nvPicPr>
        <p:blipFill>
          <a:blip r:embed="rId2"/>
          <a:stretch/>
        </p:blipFill>
        <p:spPr>
          <a:xfrm>
            <a:off x="0" y="3959280"/>
            <a:ext cx="9144000" cy="993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TextBox 1" descr=""/>
          <p:cNvPicPr/>
          <p:nvPr/>
        </p:nvPicPr>
        <p:blipFill>
          <a:blip r:embed="rId1"/>
          <a:stretch/>
        </p:blipFill>
        <p:spPr>
          <a:xfrm>
            <a:off x="1182600" y="176040"/>
            <a:ext cx="3316320" cy="615960"/>
          </a:xfrm>
          <a:prstGeom prst="rect">
            <a:avLst/>
          </a:prstGeom>
          <a:ln w="0">
            <a:noFill/>
          </a:ln>
        </p:spPr>
      </p:pic>
      <p:sp>
        <p:nvSpPr>
          <p:cNvPr id="465" name="TextBox 1"/>
          <p:cNvSpPr/>
          <p:nvPr/>
        </p:nvSpPr>
        <p:spPr>
          <a:xfrm>
            <a:off x="2955960" y="1765440"/>
            <a:ext cx="319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用长为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米的一根绳子，围成一个矩形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其面积的最大值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" descr=""/>
          <p:cNvPicPr/>
          <p:nvPr/>
        </p:nvPicPr>
        <p:blipFill>
          <a:blip r:embed="rId1"/>
          <a:stretch/>
        </p:blipFill>
        <p:spPr>
          <a:xfrm>
            <a:off x="1182600" y="176040"/>
            <a:ext cx="3316320" cy="61596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"/>
          <p:cNvSpPr/>
          <p:nvPr/>
        </p:nvSpPr>
        <p:spPr>
          <a:xfrm>
            <a:off x="1307880" y="1341360"/>
            <a:ext cx="6381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用总长度为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4m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不锈钢材料制成如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所示的外观为矩形的框架，其横档和竖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别与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AD,AB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平行。设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AB=xm,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当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多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时，矩形框架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ABCD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面积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s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最大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最大面积是多少平方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3203640" y="4746600"/>
          <a:ext cx="3940200" cy="1728720"/>
        </p:xfrm>
        <a:graphic>
          <a:graphicData uri="http://schemas.openxmlformats.org/drawingml/2006/table">
            <a:tbl>
              <a:tblPr/>
              <a:tblGrid>
                <a:gridCol w="1328760"/>
                <a:gridCol w="1260360"/>
                <a:gridCol w="1351080"/>
              </a:tblGrid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9" name="TextBox 7"/>
          <p:cNvSpPr/>
          <p:nvPr/>
        </p:nvSpPr>
        <p:spPr>
          <a:xfrm>
            <a:off x="2474640" y="447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8"/>
          <p:cNvSpPr/>
          <p:nvPr/>
        </p:nvSpPr>
        <p:spPr>
          <a:xfrm>
            <a:off x="2489760" y="61340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9"/>
          <p:cNvSpPr/>
          <p:nvPr/>
        </p:nvSpPr>
        <p:spPr>
          <a:xfrm>
            <a:off x="7337160" y="62118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0"/>
          <p:cNvSpPr/>
          <p:nvPr/>
        </p:nvSpPr>
        <p:spPr>
          <a:xfrm>
            <a:off x="7352280" y="447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TextBox 1" descr=""/>
          <p:cNvPicPr/>
          <p:nvPr/>
        </p:nvPicPr>
        <p:blipFill>
          <a:blip r:embed="rId1"/>
          <a:stretch/>
        </p:blipFill>
        <p:spPr>
          <a:xfrm>
            <a:off x="1182600" y="176040"/>
            <a:ext cx="3316320" cy="615960"/>
          </a:xfrm>
          <a:prstGeom prst="rect">
            <a:avLst/>
          </a:prstGeom>
          <a:ln w="0">
            <a:noFill/>
          </a:ln>
        </p:spPr>
      </p:pic>
      <p:sp>
        <p:nvSpPr>
          <p:cNvPr id="474" name="矩形 4"/>
          <p:cNvSpPr/>
          <p:nvPr/>
        </p:nvSpPr>
        <p:spPr>
          <a:xfrm>
            <a:off x="351000" y="1341360"/>
            <a:ext cx="861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一工艺师生产的某种产品按质量分为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个档次，第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档次（最低档次）的产品一天能生产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件，每件可获利润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元。产品每提高一个档次，每件产品的利润增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元，但一天产量减少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件，如果只从生产利润这一角度考虑，他生产哪个档次的产品，可获得最大利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TextBox 1" descr=""/>
          <p:cNvPicPr/>
          <p:nvPr/>
        </p:nvPicPr>
        <p:blipFill>
          <a:blip r:embed="rId1"/>
          <a:stretch/>
        </p:blipFill>
        <p:spPr>
          <a:xfrm>
            <a:off x="1182600" y="176040"/>
            <a:ext cx="3316320" cy="61596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3"/>
          <p:cNvSpPr/>
          <p:nvPr/>
        </p:nvSpPr>
        <p:spPr>
          <a:xfrm>
            <a:off x="1066680" y="1143000"/>
            <a:ext cx="5791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黑体"/>
              </a:rPr>
              <a:t>二次函数应用的解题思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457200" y="2057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宋体"/>
              </a:rPr>
              <a:t>回顾本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dc5900"/>
                </a:solidFill>
                <a:latin typeface="隶书"/>
                <a:ea typeface="宋体"/>
              </a:rPr>
              <a:t>最大利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dc5900"/>
                </a:solidFill>
                <a:latin typeface="隶书"/>
                <a:ea typeface="宋体"/>
              </a:rPr>
              <a:t>最大面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宋体"/>
              </a:rPr>
              <a:t>解决问题的过程，你能总结一下解决此类问题的</a:t>
            </a:r>
            <a:r>
              <a:rPr b="1" lang="zh-CN" sz="2800" spc="-1" strike="noStrike">
                <a:solidFill>
                  <a:srgbClr val="7979a5"/>
                </a:solidFill>
                <a:latin typeface="隶书"/>
                <a:ea typeface="宋体"/>
              </a:rPr>
              <a:t>基本思路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宋体"/>
              </a:rPr>
              <a:t>吗？与同伴交流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"/>
          <p:cNvSpPr/>
          <p:nvPr/>
        </p:nvSpPr>
        <p:spPr>
          <a:xfrm>
            <a:off x="457200" y="3505320"/>
            <a:ext cx="8381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理解问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8"/>
          <p:cNvSpPr/>
          <p:nvPr/>
        </p:nvSpPr>
        <p:spPr>
          <a:xfrm>
            <a:off x="457200" y="40384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分析问题中的变量和常量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以及它们之间的关系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9"/>
          <p:cNvSpPr/>
          <p:nvPr/>
        </p:nvSpPr>
        <p:spPr>
          <a:xfrm>
            <a:off x="457200" y="4648320"/>
            <a:ext cx="8381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用数学的方式表示出它们之间的关系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0"/>
          <p:cNvSpPr/>
          <p:nvPr/>
        </p:nvSpPr>
        <p:spPr>
          <a:xfrm>
            <a:off x="457200" y="525780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做数学求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1"/>
          <p:cNvSpPr/>
          <p:nvPr/>
        </p:nvSpPr>
        <p:spPr>
          <a:xfrm>
            <a:off x="457200" y="5791320"/>
            <a:ext cx="8381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检验结果的合理性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拓展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7:24:15Z</dcterms:created>
  <dc:creator>lijunhua</dc:creator>
  <dc:description/>
  <dc:language>en-US</dc:language>
  <cp:lastModifiedBy>Administrator</cp:lastModifiedBy>
  <dcterms:modified xsi:type="dcterms:W3CDTF">2018-12-29T07:25:50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